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5209A4A-8F96-45F4-B61E-EB665A3F9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05144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A213-8268-4100-8285-CDE3BBB19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823104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7360" y="3808440"/>
            <a:ext cx="823104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5120" y="133632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7360" y="380844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5120" y="380844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26503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0520" y="1336320"/>
            <a:ext cx="26503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3680" y="1336320"/>
            <a:ext cx="26503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7360" y="3808440"/>
            <a:ext cx="26503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0520" y="3808440"/>
            <a:ext cx="26503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3680" y="3808440"/>
            <a:ext cx="26503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7360" y="1336320"/>
            <a:ext cx="823104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823104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401652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5120" y="1336320"/>
            <a:ext cx="401652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97920"/>
            <a:ext cx="76010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5120" y="1336320"/>
            <a:ext cx="401652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7360" y="380844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401652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5120" y="133632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5120" y="380844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5120" y="133632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7360" y="3808440"/>
            <a:ext cx="823104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7" descr="Circuit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7360" y="1336320"/>
            <a:ext cx="823104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3184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indent="-22860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255680" indent="-22680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596960" indent="-21888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596960" indent="-218880">
              <a:spcBef>
                <a:spcPts val="150"/>
              </a:spcBef>
              <a:spcAft>
                <a:spcPts val="601"/>
              </a:spcAft>
              <a:buClr>
                <a:srgbClr val="0000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596960" indent="-218880">
              <a:spcBef>
                <a:spcPts val="150"/>
              </a:spcBef>
              <a:spcAft>
                <a:spcPts val="601"/>
              </a:spcAft>
              <a:buClr>
                <a:srgbClr val="0000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Text Box 48"/>
          <p:cNvSpPr/>
          <p:nvPr/>
        </p:nvSpPr>
        <p:spPr>
          <a:xfrm>
            <a:off x="7045200" y="6451560"/>
            <a:ext cx="15811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</a:rPr>
              <a:t> </a:t>
            </a:r>
            <a:fld id="{4C45365B-C5DE-464D-8B01-765CB4BA34ED}" type="datetime3">
              <a:rPr b="0" lang="en-US" sz="1600" spc="-1" strike="noStrike">
                <a:solidFill>
                  <a:srgbClr val="808080"/>
                </a:solidFill>
                <a:latin typeface="Arial Narrow"/>
              </a:rPr>
              <a:t>July 30, 2026</a:t>
            </a:fld>
            <a:r>
              <a:rPr b="0" lang="en-US" sz="18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Slide</a:t>
            </a:r>
            <a:r>
              <a:rPr b="0" lang="en-US" sz="1800" spc="-1" strike="noStrike">
                <a:solidFill>
                  <a:srgbClr val="808080"/>
                </a:solidFill>
                <a:latin typeface="Arial Narrow"/>
              </a:rPr>
              <a:t> </a:t>
            </a:r>
            <a:fld id="{D6AB1E03-9189-4179-A62D-F41496546263}" type="slidenum">
              <a:rPr b="1" lang="en-US" sz="16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Text Box 57"/>
          <p:cNvSpPr/>
          <p:nvPr/>
        </p:nvSpPr>
        <p:spPr>
          <a:xfrm>
            <a:off x="4305960" y="536724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http://www.c</a:t>
            </a:r>
            <a:r>
              <a:rPr b="0" i="1" lang="en-US" sz="14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0" i="1" lang="en-US" sz="14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.org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54"/>
          <p:cNvSpPr/>
          <p:nvPr/>
        </p:nvSpPr>
        <p:spPr>
          <a:xfrm flipV="1">
            <a:off x="0" y="0"/>
            <a:ext cx="9159840" cy="14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Rectangle 60"/>
          <p:cNvSpPr/>
          <p:nvPr/>
        </p:nvSpPr>
        <p:spPr>
          <a:xfrm flipV="1">
            <a:off x="0" y="1026000"/>
            <a:ext cx="915984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Vmin Estimate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600200"/>
            <a:ext cx="5854680" cy="3886200"/>
            <a:chOff x="380880" y="1600200"/>
            <a:chExt cx="5854680" cy="388620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380880" y="1600200"/>
              <a:ext cx="5854680" cy="388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" name=""/>
            <p:cNvGrpSpPr/>
            <p:nvPr/>
          </p:nvGrpSpPr>
          <p:grpSpPr>
            <a:xfrm>
              <a:off x="1600200" y="1828800"/>
              <a:ext cx="2222280" cy="925560"/>
              <a:chOff x="1600200" y="1828800"/>
              <a:chExt cx="2222280" cy="925560"/>
            </a:xfrm>
          </p:grpSpPr>
          <p:sp>
            <p:nvSpPr>
              <p:cNvPr id="54" name="Rectangle 8"/>
              <p:cNvSpPr/>
              <p:nvPr/>
            </p:nvSpPr>
            <p:spPr>
              <a:xfrm>
                <a:off x="1600200" y="1828800"/>
                <a:ext cx="2222280" cy="925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- - - -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Model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    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50K-point IS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o/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□/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MC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685520" y="2311200"/>
                <a:ext cx="597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56" name="Rectangle 8"/>
          <p:cNvSpPr/>
          <p:nvPr/>
        </p:nvSpPr>
        <p:spPr>
          <a:xfrm>
            <a:off x="330120" y="557532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5% Vmin error relative to MC (&lt;4.7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04920" y="5994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cellent agreement with IS beyond 5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5257800" y="553716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d up of ~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over MC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257800" y="599436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d up of ~1.7x over I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AutoShape 45"/>
          <p:cNvSpPr/>
          <p:nvPr/>
        </p:nvSpPr>
        <p:spPr>
          <a:xfrm>
            <a:off x="514440" y="1162080"/>
            <a:ext cx="6365880" cy="390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Text Box 48"/>
          <p:cNvSpPr/>
          <p:nvPr/>
        </p:nvSpPr>
        <p:spPr>
          <a:xfrm>
            <a:off x="619200" y="118116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pplication 1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for a yield or cell failure probability (P), estimate Vmi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Yield / Cell Failure Probability Estimate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7137360" y="1994040"/>
            <a:ext cx="1523880" cy="72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- - -   Mode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Tahoma"/>
              </a:rPr>
              <a:t>______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I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/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□/</a:t>
            </a:r>
            <a:r>
              <a:rPr b="0" lang="el-GR" sz="1400" spc="-1" strike="noStrike">
                <a:solidFill>
                  <a:srgbClr val="000000"/>
                </a:solidFill>
                <a:latin typeface="Tahoma"/>
                <a:ea typeface="Tahoma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MC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74720" y="1751040"/>
            <a:ext cx="6172200" cy="3303720"/>
            <a:chOff x="774720" y="1751040"/>
            <a:chExt cx="6172200" cy="330372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774720" y="1751040"/>
              <a:ext cx="6172200" cy="33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837400" y="2031120"/>
              <a:ext cx="0" cy="2603160"/>
            </a:xfrm>
            <a:prstGeom prst="line">
              <a:avLst/>
            </a:prstGeom>
            <a:ln w="38160">
              <a:solidFill>
                <a:srgbClr val="00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2760" y="2044080"/>
              <a:ext cx="0" cy="2590560"/>
            </a:xfrm>
            <a:prstGeom prst="line">
              <a:avLst/>
            </a:prstGeom>
            <a:ln w="38160">
              <a:solidFill>
                <a:srgbClr val="00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2760" y="2394360"/>
              <a:ext cx="166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37400" y="2324160"/>
              <a:ext cx="97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091960" y="3024360"/>
              <a:ext cx="208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1" name="Rectangle 8"/>
            <p:cNvSpPr/>
            <p:nvPr/>
          </p:nvSpPr>
          <p:spPr>
            <a:xfrm>
              <a:off x="5976000" y="1974240"/>
              <a:ext cx="54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4797000" y="2113920"/>
              <a:ext cx="54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3" name="Rectangle 8"/>
            <p:cNvSpPr/>
            <p:nvPr/>
          </p:nvSpPr>
          <p:spPr>
            <a:xfrm>
              <a:off x="2993760" y="2674080"/>
              <a:ext cx="54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744920" y="3291120"/>
              <a:ext cx="34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5" name="Rectangle 8"/>
            <p:cNvSpPr/>
            <p:nvPr/>
          </p:nvSpPr>
          <p:spPr>
            <a:xfrm>
              <a:off x="1814760" y="3011040"/>
              <a:ext cx="54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  <a:ea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92320" y="2031120"/>
              <a:ext cx="0" cy="2590200"/>
            </a:xfrm>
            <a:prstGeom prst="line">
              <a:avLst/>
            </a:prstGeom>
            <a:ln w="38160">
              <a:solidFill>
                <a:srgbClr val="00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aphicFrame>
        <p:nvGraphicFramePr>
          <p:cNvPr id="77" name=""/>
          <p:cNvGraphicFramePr/>
          <p:nvPr/>
        </p:nvGraphicFramePr>
        <p:xfrm>
          <a:off x="304920" y="5118120"/>
          <a:ext cx="7073640" cy="1674720"/>
        </p:xfrm>
        <a:graphic>
          <a:graphicData uri="http://schemas.openxmlformats.org/drawingml/2006/table">
            <a:tbl>
              <a:tblPr/>
              <a:tblGrid>
                <a:gridCol w="1155600"/>
                <a:gridCol w="2247840"/>
                <a:gridCol w="3670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min 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</a:t>
                      </a:r>
                      <a:r>
                        <a:rPr b="1" i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wf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/ P</a:t>
                      </a:r>
                      <a:r>
                        <a:rPr b="1" i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rf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/ P</a:t>
                      </a:r>
                      <a:r>
                        <a:rPr b="1" i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h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ssist Strate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wf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lt;&lt;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r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d assist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wf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lt;1e-4; 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r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lt;1e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derate read and write ass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wf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gt;1e-4; 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r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gt;1e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ggressive read and write ass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h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comes signific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ed assistance for hold t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AutoShape 45"/>
          <p:cNvSpPr/>
          <p:nvPr/>
        </p:nvSpPr>
        <p:spPr>
          <a:xfrm>
            <a:off x="514440" y="1238400"/>
            <a:ext cx="6073560" cy="428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Text Box 48"/>
          <p:cNvSpPr/>
          <p:nvPr/>
        </p:nvSpPr>
        <p:spPr>
          <a:xfrm>
            <a:off x="619200" y="1257480"/>
            <a:ext cx="59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pplication 2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at a VDD point, estimate the cell failure probabili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7360" y="1336320"/>
            <a:ext cx="82310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eneric for hold, read and wri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asy to us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31840">
              <a:spcBef>
                <a:spcPts val="125"/>
              </a:spcBef>
              <a:spcAft>
                <a:spcPts val="499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un 1000 Monte Carlo simulation for SN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at each VDD point (e.g. 0.5, 0.6, …, 1.0V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31840">
              <a:spcBef>
                <a:spcPts val="125"/>
              </a:spcBef>
              <a:spcAft>
                <a:spcPts val="499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xtract statistical sensitivity of SN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to VD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31840">
              <a:spcBef>
                <a:spcPts val="125"/>
              </a:spcBef>
              <a:spcAft>
                <a:spcPts val="499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se the theoretical model to estimate Vmin for a given SRAM yield or cell failure probability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31840">
              <a:spcBef>
                <a:spcPts val="125"/>
              </a:spcBef>
              <a:spcAft>
                <a:spcPts val="499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R estimate the cell failure probability or SRAM yield at a given VD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ccurate: &lt;5.0% error relative to MC, excellent agreement with I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ast: ≥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  <a:ea typeface="ＭＳ Ｐゴシック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speed-up for larger SRAMs over MC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Verified with both 90nm and 45nm nod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Statistical Method Summary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SOI 0.18u Test Chip for Sub-V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 Narrow"/>
              </a:rPr>
              <a:t>T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SRAM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4495680"/>
            <a:ext cx="4800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ess various cell structures (6T, 8T, 10T, sym, asym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ess various assist methods for read/write/hol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fab now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403884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Exploration of Low Voltage eDRAM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029200" y="1190520"/>
            <a:ext cx="3200400" cy="2019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8320" y="310500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gative WL can exponentially increase Tref (VQ is discharged from 0.4V to 0.3V)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067360" y="3762360"/>
            <a:ext cx="320040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48320" y="592128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de can be charged to 0.4V with a boosted WLVDD (&gt;0.6V) within 100n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303880"/>
            <a:ext cx="203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Kb eDRAM on SOI 0.18u test chip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06640" y="4444920"/>
            <a:ext cx="1574640" cy="1832040"/>
            <a:chOff x="2006640" y="4444920"/>
            <a:chExt cx="1574640" cy="1832040"/>
          </a:xfrm>
        </p:grpSpPr>
        <p:graphicFrame>
          <p:nvGraphicFramePr>
            <p:cNvPr id="92" name=""/>
            <p:cNvGraphicFramePr/>
            <p:nvPr/>
          </p:nvGraphicFramePr>
          <p:xfrm>
            <a:off x="2006640" y="4444920"/>
            <a:ext cx="1574640" cy="1832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6640" y="4444920"/>
                      <a:ext cx="15746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2313000" y="5937120"/>
              <a:ext cx="168120" cy="96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23840" y="5896080"/>
            <a:ext cx="130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9.52fF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295280"/>
            <a:ext cx="3962520" cy="39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ic-based eDRAM shows potential advantages in strong invers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[1,2]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eDRAM compete with SRAM at lower voltag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Benefits: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ea, leakag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Difficulti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fresh time,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time,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aller signal to sense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Text Box 79"/>
          <p:cNvSpPr/>
          <p:nvPr/>
        </p:nvSpPr>
        <p:spPr>
          <a:xfrm>
            <a:off x="2457360" y="1981080"/>
            <a:ext cx="267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1] J. Barth et al. ISSCC 2007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[2] D. Somasekhar et al. ISSCC 2008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1566720" y="5715000"/>
            <a:ext cx="876600" cy="276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01:38:51Z</dcterms:created>
  <dc:creator>Ben Calhoun</dc:creator>
  <dc:description/>
  <dc:language>en-US</dc:language>
  <cp:lastModifiedBy>rmann</cp:lastModifiedBy>
  <dcterms:modified xsi:type="dcterms:W3CDTF">2010-05-11T13:48:52Z</dcterms:modified>
  <cp:revision>681</cp:revision>
  <dc:subject/>
  <dc:title>  Energy Efficient Digital Circuit Design across a Wide Application Space </dc:title>
</cp:coreProperties>
</file>